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3B9-74E9-42D4-BCFD-2270869B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826-4D1B-4673-8854-4264DE72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062-D39C-477A-90FF-CD059287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34C-7D3B-4C00-9908-3FD16617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4E5-684E-42B1-82A2-F5F0D08F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2201-397B-4551-A085-0BF71A74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76DB-0F31-4C2F-BF94-E9BBC7FA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60C6-D62D-494F-93B1-FB9213D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2706-E195-4CDF-8162-FB663DC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778D-923B-464B-9D49-556BB7DD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F772-EB87-42F6-A745-5F0678EE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E55-9E96-4763-8CD7-DE79B9DA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CC0-A758-49CA-949D-FFB7220D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1AD4-DD49-4195-AC6A-E2F45241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1D96-978A-43D8-91EC-CB7DB62D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3A8C-4D28-474F-A085-A72252E5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7FC2-402B-4981-8314-0D4CD6C9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D28-044C-4201-82F5-65028BC1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D42-F85C-4AA2-A9C7-409035F5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CFB-A8EB-4AEF-894D-ECA7B947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533-D40C-49ED-8270-A3622565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2DC-8CDA-4C50-AA10-9BC81182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777-FB63-468B-8F1B-54ED473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6BF-ED68-4105-BE96-6E53822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9278-DE44-4693-8158-615C3F6767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BDB4-93A4-497F-B226-D6491C26EE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sdfalcons.org/libraries/highschool/index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nding Your Way Around the 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17360" y="1937880"/>
            <a:ext cx="5309280" cy="5309280"/>
            <a:chOff x="1917360" y="1937880"/>
            <a:chExt cx="5309280" cy="5309280"/>
          </a:xfrm>
        </p:grpSpPr>
        <p:sp>
          <p:nvSpPr>
            <p:cNvPr id="157" name="_s5142"/>
            <p:cNvSpPr/>
            <p:nvPr/>
          </p:nvSpPr>
          <p:spPr>
            <a:xfrm>
              <a:off x="2629080" y="2649600"/>
              <a:ext cx="3886200" cy="3886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5143"/>
            <p:cNvSpPr/>
            <p:nvPr/>
          </p:nvSpPr>
          <p:spPr>
            <a:xfrm rot="7200000">
              <a:off x="2628360" y="2649600"/>
              <a:ext cx="3886200" cy="3886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5145"/>
            <p:cNvSpPr/>
            <p:nvPr/>
          </p:nvSpPr>
          <p:spPr>
            <a:xfrm rot="14400000">
              <a:off x="2629080" y="2648880"/>
              <a:ext cx="3886200" cy="3886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5140"/>
            <p:cNvSpPr/>
            <p:nvPr/>
          </p:nvSpPr>
          <p:spPr>
            <a:xfrm>
              <a:off x="5381640" y="319104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Online sour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5141"/>
            <p:cNvSpPr/>
            <p:nvPr/>
          </p:nvSpPr>
          <p:spPr>
            <a:xfrm>
              <a:off x="3979800" y="561852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Book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5144"/>
            <p:cNvSpPr/>
            <p:nvPr/>
          </p:nvSpPr>
          <p:spPr>
            <a:xfrm>
              <a:off x="2577960" y="319104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Periodic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library collection contains these print and online sources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,000 boo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 magazine subscrip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newspap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library web page which includes several subscription datab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ner-library loan…ACCESS P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cedures for reporting from  study hal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ort directly to the library instead of going to study hal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gn your first and last name on the sheet for your study hal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seated until count is tak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on tim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check out 2 books f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 wee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es –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 cents a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ines cannot be taken from the libra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es &amp; print-outs are free for school projects; personal copies and print-outs ar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 cen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 p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ility layo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ion of boo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oks on the mezzanine are non-fic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ction, biography, story collection, career and reference books are downstai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need any supplies, just as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ology avail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r prin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ann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D burn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entation equipment- Laptop with L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er and exit at the front on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duc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an educational purpose for being in the libra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 quietly so that others can wo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s are for reading and research. No games or inappropriate sites allow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du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sleep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eating or drink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cell ph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SNUFF OR SEE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appropriate behavior will result in loss of library privilege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hour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library is open at 7:00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n Monday and Thursday the library is open until 4:00 PM and is the host for science and math tutoring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library is closed during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lunch period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The Library Web Page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9144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812960" y="1784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6120" y="1631880"/>
            <a:ext cx="7160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e the Card Catalog link to search for books in our coll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cess PA – Use this to search for books in other PA libra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wer Library – Portal to many subscription databases such a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bscohost -Use this to find magazine artic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tLibrary – Use this to find e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P Multimedia Archive – Good for locating photograp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graphy Reference Bank – Information about peopl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olier Online – Use this for encyclopedia inform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ience Online – Use this for the latest science inform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IN – Career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ited Streaming – video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7:31:10Z</dcterms:created>
  <dc:creator>Information Services</dc:creator>
  <dc:description/>
  <dc:language>en-US</dc:language>
  <cp:lastModifiedBy>Albright_J</cp:lastModifiedBy>
  <dcterms:modified xsi:type="dcterms:W3CDTF">2006-09-06T15:18:51Z</dcterms:modified>
  <cp:revision>46</cp:revision>
  <dc:subject/>
  <dc:title>Slide 1</dc:title>
</cp:coreProperties>
</file>